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2B21-DC86-4EA5-9076-74A09B842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questions to end of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ontact [salesperson X] for slid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usiness card should be in your 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4E7DFC9D-A4AA-42FC-B226-2D3DE6ACC833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-the-Trai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v1.2.SP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’re improving, but we’re not perf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 we’d really like your feed back on the roadshow material and JBoss ON in gener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 “JBoss ON The Ro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over things to look out for when you give the Roads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pare you to present “JBoss ON The Roa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iliarize you more with JBoss 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 with the Power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include additional material (normally hidden) to help familiar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s n’ Tric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are the slid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ivate CVS: jboss-network\docs-general\enterprise_admin\training\jbossonthero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the hidden slides when giving presentations (will keep to schedu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notes in [ … ], just there for additional info, not crit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preparing the slides for the sales team to give out, I print to PDF the visible slides, no notes, 4 slides to a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re is a rough timeline for the JBoss ON training sec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0m Introduction and agen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5m JON RoadMap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20m JON Architec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35m JON Install &amp; Confi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00m LAB: JON Install &amp; Confi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10m BREAK (working lunc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25m GUI Introduc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50m LAB: Dashboard Configuration, Software Upd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00m Monitoring JBos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15m LAB: JBoss Alert, DataSource cre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30m Fini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all Tip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endees should use appropriate installer from root of CD. This is version 1.2.29, which is 1.2.SP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Windows if users have APPDATA not set to C: then install will fail: "Error. Cannot open installer log file at D:\blah\install.log“. Work around is to use the Windows Text installer in /etc of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ees should run setup.bat then follow on screen instru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tart up DB server separately when using text inst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 at https://network.jboss.com/confluence/display/DOC/Tutorial-Instal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 Tip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sked for a mailserver: For the demo you can use anything, e.g. localho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installer only allows you to change http/https ports, others are ignored. Port conflicts should be resolved by turning off the other application, uninstalling and deleting JON, then re-instal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-discovery/Inventorying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don’t support the JBoss AS Binding Service, but do support run –b 127.0.0.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 templates: Only apply to resources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 templates: Only apply to resource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user can't see any resources being imported, restart the ag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getting exceptions in UI, check server logs, probably related to no network during install. Make sure they have network then uninstall and re-insta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Charles Crouch</cp:lastModifiedBy>
  <dcterms:modified xsi:type="dcterms:W3CDTF">2006-09-11T22:35:55Z</dcterms:modified>
  <cp:revision>91</cp:revision>
  <dc:subject/>
  <dc:title>JBN Enterprise Management</dc:title>
</cp:coreProperties>
</file>